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6732-6F2E-46A9-B5F4-CCB526BF429A}"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E443-6BDE-49BF-8477-57E968F12934}"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2375-E095-40CA-83FF-A329FEB5811C}"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D007-742C-425E-BF11-AF6703F26ABE}"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55BE-94E3-4E1B-A173-DB20F62E2D42}"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B737-968A-4671-8F92-ADEB4B9444E9}"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8FE10-00E6-4F8D-8613-9E64BABBF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C7CE4-D8E0-4C1B-902A-6093E155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A8392-068C-4F4C-A2E4-6C662EEEA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8CEDD-70E2-417F-8532-B11C47380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5A5E8-E973-45E7-BA43-400C75C68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721B8-916F-48AB-8133-66CF1839B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27A48-AEB7-45AE-9FFB-23CCC8D54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4E521-7BE1-40C7-AF87-BBA41B3E9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DCE93-F4D1-4BA0-9B7C-D1DE68896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ED474-EB3D-4930-8B1B-30AD116F2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5E8B4-92DB-4BF1-AD6F-8D1F2C40E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06C04-F1F0-4732-9CF7-BE14192A2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E0EBD-051C-48E4-957E-A6EAC2A96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17033-8C56-4C36-96A7-B1C337797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B4998-069F-49E9-9CF1-FBFE3BD58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E3C90-4CCB-4F4F-9E57-5BFD9469A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59B54-E243-44F6-887A-4F59DC953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06CF62-03DC-4573-B5F0-809FA4FBB3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B3374-F8A8-4D42-9A35-E549B0481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E3D8C-3784-4026-8804-F0CFE7BF2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6138A-F983-4A7D-AD4F-E1C39A990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9E38D1-60E1-42CB-9465-1B2431E1D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88AF6-547E-4120-A4AB-EA8E45566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CC7AAB-A22D-4D5D-9156-47309892FE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14DA7-5DAE-4024-8D42-4BCF35DE8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4F925-DE17-4345-A710-B27EFA4B0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B68F7-F6D3-40A9-8CBB-423E16DFD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215E9-D650-4540-9186-C2F78DC4F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B101D2-FC35-472B-B388-EFE721A65C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F00F2-73F2-4924-AC5D-285708AB1E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97EBE9-C9D3-46D5-A90D-9D5DDBFBF6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5F775-5DAB-43C4-A303-1DFDE4763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1D60B-117A-4D5A-A887-AF10CEF12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A0C96-EE59-4785-80BE-F69895D0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C9B1AC-3628-4C89-8609-6D67D2FE02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13EDED-9774-4CD2-810B-95D684EF3B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E9417-D3BB-4FC3-BACC-41E0666766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BD0D6-15AB-4567-9EAA-0F9F45BB1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8E04D-27DB-4B92-B828-3A19592FC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9914B-FD6D-4805-8101-3012D5384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E1D2D-C00E-4EF3-AF08-B10D6A4C2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9A992D-9875-4729-ABB6-C9205BB397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966958-457C-4F51-B7FA-129BE933C8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9DE030-D116-4FD8-AAB2-A7CA0BADF0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2CC6B-7D3E-4A12-993B-3FB61355A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FB2B4-11AA-4958-AE10-D56A756AD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937C90-9805-4792-9CB7-31C2503C1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B1532-7C1C-4D0A-91D0-7A8850EA1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74B2E9-42D0-48DD-9ACD-5E4AA4299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902AAA-9C44-4CDE-A7F1-96C6EEEA0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90667-5C56-4626-9EF6-7621ED3D49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A17D4-7B5F-4960-8F67-4B8E86857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87920-0260-48B4-BFF7-EFC301E49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733A95-210C-48E8-8705-17FF891DBF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B383A9-AB16-4A9F-B569-F4F3BFCF8E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82CCF-8156-4869-AD71-EF6CADAA7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A6B4E6-0B1E-444F-AD6E-B292566F63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1033E-756B-4A11-A50C-F42ECC633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E202-6E18-40D2-8FBF-A2F123A64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45D3-8DD1-436F-B9FA-E9B4288FE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36FE-DDB7-448B-B210-D3002D532D87}"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3E73-6A54-406A-827C-08339BCA9D33}"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4168-07F1-411A-8AE1-7287D30FB826}"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2A77-DDE6-4E83-9233-D06390380BFA}"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FC14-728C-4436-AFFF-CF03661EA5D6}"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Juan1.doc</cp:lastModifiedBy>
  <dcterms:modified xsi:type="dcterms:W3CDTF">2012-07-26T00:38:39Z</dcterms:modified>
  <cp:revision>22</cp:revision>
  <dc:subject/>
  <dc:title>Slide 1</dc:title>
</cp:coreProperties>
</file>